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C8A-6398-4B08-A157-32A1B13E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B4C-501C-4460-A19A-CA188849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542A6-CB6B-4B7E-8DFC-EFE58E7C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86C75-8341-445C-99FD-109A11F7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F9621-1190-474F-A2B3-9E45F32B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4A9C2-3D0C-4336-B112-936EC62D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D95C1-F5E7-4BE9-9018-445750D7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AF3EE-EAD6-4935-BA1B-9CCE4DF5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F8E57-0380-4CA7-923F-AB7C0700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08ADE-92AC-48A6-965B-5E73A3D4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D1B5A-A1F8-49B2-B1F5-819660BC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F0B24-9FA4-4488-9074-C20146DC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F11B-EE43-44B4-8051-1FC158FA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67C6D-EECC-4FC8-A907-25AEC740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52B46-ADD2-4696-8CCA-A35002D5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06F73-45FA-4766-8274-0FAED5C9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B9B1C-928E-4B4D-9BB1-FA8E2B39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FB7A6-E215-486E-B14D-CE8E83B3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0B74C-F3F3-4A7F-B142-C07FE000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E6610-D63D-43C5-8532-FF524A59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DD30B-6C09-4694-B272-8CCAAC08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53DE7-E6A6-4139-B678-CB2A90E9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88045-4D30-42BD-8374-5FA04BAD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120-B8FA-43F1-BEE7-18897E8E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2D4CA-D10D-4978-94CE-04BB79E0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7A0FA-5276-4D33-8648-EC53D94A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79A22-0C63-4F60-93E9-41A2EC3F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B5C56-102A-4768-A5B0-A878193E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7AD25-3279-4EE9-AE4C-F9CE431E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CB893-D2BF-44F7-8F5A-C39C8882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A3FC5-67A3-4388-84A7-51505CDC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C1151-458F-4A3E-8A85-CB7AC7E9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6DF99-6427-4D67-89C4-1FF50BDA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AC0DE-44C5-464D-AB66-C43689DF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91B6-559B-419C-BF9C-0FC1F29B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7E9E4-76AB-47CF-A164-F74B0E7F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EFD6E-0687-4C51-88C6-CED2BD15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A647E-B588-4AA9-B005-1FD42F22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717B1-FB44-427A-B03D-17E328F6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BA5F9-56D1-4C4A-87EC-77E66D66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67810-88DF-48B7-80FF-4EFEFCC2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F8D11-B70D-45AA-B7F0-82CFA072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1648E-F220-42CA-8D36-DC59F7F4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5ED7B-A017-4712-A8EC-B6E37CF1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90118-8371-47CF-9F18-3ED1A407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675C-C74E-40F0-81AB-57621224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77B09-CB83-445C-AC76-E3A7FDA4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936A7-C525-413D-97F3-7460AEB1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A0E5D-558D-4EA3-8197-FD3B0E8F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6FD7E-1F5C-42DD-B33D-A964B3E9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3F2C4-B7DD-4AF6-B384-AEC4A001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83F30-1519-4E81-967C-DF7D5D97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EF2C9-9612-45CF-8674-4C1FFC79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F306F8-B3CB-4433-95A1-3B7609CE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8CFAD-F7F0-411D-9FD6-B7ED7AA9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208C3-33AA-4727-873F-F5B8AE2F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B7B0-4E84-44F0-8606-D8F8BC0F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817D51-4AD4-447B-8276-D04CE4BB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66C126-E831-471E-9881-813BD16E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FD934-0888-452E-A0D8-9932ED7A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E2DFB-A3BF-42B2-A4EF-7501CB22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6CFEB-802F-4661-9951-57A5EA10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F8D542-829A-4460-84D0-8F4F6ED9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A6E474-A572-49A4-BAD7-AE4E2920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6E85CC-7F9F-4436-91E0-A0A467D0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A2ECDB-5978-42CF-9D3A-C15B4455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928C38-9ADC-42F1-9A95-64DA6AA7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3863-077C-4CCF-985C-FBDA7079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D43A9A-D4BB-42B7-B42A-337EB2A6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AD290-5E10-4E23-B57F-733F80F6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C501A4-FBE7-4008-9342-BBB3F900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C110A0-F106-41DA-B367-F165FBE0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7511A-341C-4941-AF01-415A53E4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F2B6E-0C93-4FCE-B4DD-334C2587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7472C-0C0A-4DF2-B04C-35B73180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DFD77B-6509-4E73-A5A8-6D102285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AD8923-9729-489B-AE7D-3F1E967F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2EB19D-AA6E-4290-A2B1-F002DF08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8E1D-B8C1-4A51-BD71-D76BB095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06C830-3A10-4723-8820-910BF4F2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41940E-1F11-4040-AD24-31C02B9B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1767FD-15CA-426F-9AE3-1413E698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EB4675-A3E9-4E8A-AF03-DFCBD13B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603CEB-6AC7-480D-9386-63961B6D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20EBBB-9B60-441C-A4C4-AFB9DBA3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6198EE-A29F-4E4C-B13A-7DF47E4C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B64E29-F61D-4BB0-92AE-E73393C7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0E121E-0796-4967-BF12-307230E3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C1F0F2-8525-4531-B813-CE328BE8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1B0C-8BC9-4975-A8AF-368500CF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6F34AF-CFDD-447A-A8B3-9D897004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8E76DF-9FA2-4C1D-841E-535ABB9E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97006C-1F08-41D1-AC67-575E4563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02EF04-02A5-43B9-B722-28A2D927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7E7803-A5AC-4D8A-AA4A-90387618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2F5847-0E57-46C7-A58B-CEACD766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7A1A6A-2592-46E4-8643-8727E49B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D98603-433C-42B1-B826-C9FA1F3E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0CD747-1D84-43A5-AF17-02E02CC7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9C2720-88D8-445B-92B4-552BAF2B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A12C-3A47-4A0A-8C43-48CB8C2A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BCE30C-037B-4571-8BA0-896169ED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394619-0C06-4521-A25A-FB83F0F5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D69911-24CF-4C85-802A-55A4E503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2A445A-3627-4277-A7F1-A233E977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499678-A825-41D6-A7E8-2368AF49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667C69-5410-4844-B674-2E967425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5E1E34-3507-4F29-A89A-D2240185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8BCC96-00F4-4125-BA80-58E88C49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5B679D-9CA2-49AA-ABB2-63F8D5CC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521749-4C8E-4E71-81A9-AEA59AE6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73D2-BC59-439C-B196-AA562CC2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FE20-3E12-4364-B13F-17A4A151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10E2BD-EA49-4B2D-AC94-44799D84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F5CA67-B4EF-4982-B320-03C0ABF7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6A7886-E64D-4B90-8F93-619E3FDE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838E08-2E21-4722-BE39-20AE8197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1A4F0C-B41B-44F5-9653-ACC307A2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2E4304-DB0F-43CC-8FAD-4144A636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F81039-C228-422B-A558-8A8C76A0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08019B-C473-4D8E-8CCA-B08D5A07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E2D971-4DD8-46D3-9D5C-4C13A1A9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27B368-E039-442C-8716-511CDDB9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F916-8771-48C1-993A-9B6FB26F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DCA945-9914-4A96-B50C-066EA8FD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731652-A987-4750-909B-508984E8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6BBAB5-6CB1-4611-B4EC-A6D622F9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B44861-D254-4680-BF38-1EB84D13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EFFBE3-72E7-419D-BFC0-108B077A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0CA080-522D-49E8-97AB-D0CB1E82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B31E86-4925-4826-A084-2F0FB25F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4D8786-D012-4FCE-B690-238E11D9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91E680-EC2C-44F7-A590-1F382934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2D82F8-9417-4988-B786-C4E29CE8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7ECA-9BF9-4D9E-8597-90D104BE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D0B8D0-FD7B-4FB8-8F12-F021D040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711581-95C2-4752-A774-2019A4CE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CA8F3B-9816-4FDB-A5E9-241D74F5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765CCD-AD83-4C60-BEBB-4324D7EF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1BF253-628E-4381-A7BB-90E01C5B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63ABC1-FF5D-4472-85A5-89365FC6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4F8DDE-8F12-4B90-BD3E-B32664BB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E3D3E1-2E35-4DC1-9150-4ED1A5CF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EB190C-48EB-43A7-9F9D-2F864E77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00A11E-1476-47BA-B391-74C84130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E3CC-2772-46AB-96C9-7B3F878D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121BF5-4ADA-4212-A149-15373897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49ACE2-6ACC-46BC-9595-B343A65F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272C7D-71B4-4199-ADF2-BA565C4B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713189-0D83-4CC1-B6CE-6CE7EE56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C3B98D-7EEF-4FBE-8B8C-9957AC99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F7B5BD-5390-4479-B658-ACA56860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CABC32-763A-4DDE-B48A-5222F49A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AC1958-2793-4842-BA7E-A78FAE67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E2A556-FAA3-42F4-9697-BF55607A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5D6F4C-0358-4780-9183-9259A93D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72C6-00BC-4725-91F9-13F924F4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CE7FF0-8E26-4850-92D3-998618BC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23DDBD-3D2C-42E5-8C6E-2BFC214E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224499-B317-4DE5-AE75-7D4F8E79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973C1D-CDE7-454F-B999-4EBEFCAF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74DC3E-FAE6-435C-98F1-5AB83349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6C1C63-34AD-448B-A4D7-6A8F0D27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5B1529-916F-4FBD-B67E-305B2003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BCD1D1-8ECA-4478-8EAA-0E4E4463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2E638F-6E4E-43BA-B5F9-EDB297B5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CCE03D-B73D-4F25-AE8A-AB6A3AFA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1247C-1DAF-4988-A183-03C0EF7F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A7325D-C731-4A78-9453-FC6AFCAF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68CF88-D648-4904-BF51-38103281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341AA4-D36D-4D3E-BEC9-A8114858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355EC1-E13A-4D72-B9CF-356DA56F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F45488-F06D-4590-923F-FBB66848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9D6269-6B79-4084-B4A9-A3EB570E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9FE78B-859C-4E8E-ACED-80FE0DA0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397600-4D06-4B1A-BBB8-A6E448D4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6411B0-416F-47E8-8A67-A5AF5A5D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CC329A-8013-453D-9489-FE85D7D8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5212E-FAA7-42F8-ABD6-A9EEFE8A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0DE01F-045F-4EB7-8D70-11C79F91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106E47-BD8B-408D-968A-66BAC28E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1C5D32-C6F2-4D04-961C-AF147FE3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6127FE-A38F-428A-8ACB-CB1AE0FD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780019-34F0-4E55-BC0D-EC0A39C1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012776-3E2B-495A-9375-B351FE8E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F40B4A-A051-4AF5-BCF1-66CB6307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F65251-4A5B-4236-96A6-E95CB647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13BAF8-3854-41C9-B18A-8E244805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B76619-C451-406B-B705-B5544948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3DA8D-EAB8-408C-B0B4-BA15E813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962847-0E8D-4BA2-9146-D48A2250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AC90F6-DE07-4351-A43C-6119CE8F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D831E1-75EA-4511-AE19-9DAC9068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96D477-DD27-4515-B021-9D56E566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830FAE-A406-4C21-A47C-11262656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FFFFA5-F479-47A7-A93F-25AF3EF3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E19AC6-8A76-4491-85B4-3E91329E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8BAF1-DBA3-48E6-A12B-100C89A5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5E794-399E-40FD-A3C9-D7368551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55B-0642-4DF4-821D-DDBCD690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79427-AACE-43E9-A252-8EBF3FF7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26950-41AF-4FB5-88CE-01BE9492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03205-6D2B-4ED3-B436-6322F022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E07DF-AA2A-4A61-A0C4-3D92BBC9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4A820-8114-4873-9104-450FF6E0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59AD5-DC3B-4CC5-A1C0-D33853CB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B4D29-03FA-47B2-A6FA-D349D42D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702F2-F4BC-44D0-9EE2-63EE11B2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13F26-C7DC-415D-AE88-18FFF3FF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25EEA-0840-46AA-BB68-B52A68EE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1CC-1CE5-4F32-81C4-7A1220F6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D99FE-7DE0-4C01-9BEF-3500B9A0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851A1-8837-4B8D-8D93-B30C52B4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D8FA6-A4CE-41B6-9155-25635A69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D4B33-02F8-4E49-B789-3929E804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04E58-462E-47F9-93B9-22811FCB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C4C24-B484-4D51-91E0-778245B2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9EFEC-11B5-4080-BC4F-69D651BC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4C77D-E44F-49EB-AF36-19E694FC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E38CC-77E1-40CF-B3A5-0BE4F549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BB471-E917-4D14-8BB7-DC8A347A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3D49-FC30-4310-9518-B41BA709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73CF6-6411-4AAD-B1D5-119465C6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6A19A-A25B-42A0-A1C1-CB48304E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DAE59-A7E7-47C4-BF59-7F43B61B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377FA-1BEC-401B-9451-5444B659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2BC18-23B6-40BF-A677-3ECBDB8D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3BAD2-A339-4831-9F75-D8D37A10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D6E36-913B-44F7-BD1E-E9AF1027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EFB69-878C-4193-9CFC-C9F83B9A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01AE6-EE17-4099-9191-BB12212F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EE3CA-D9E7-41E6-B7DA-9FDF3672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EED-0F60-454D-BCFF-4ABA4B31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9E3D9-F631-4F9F-A858-5A1D58B5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F338C-531B-4B45-801E-3CC7BFD3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7D9DA-6056-475F-A494-C19FC264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1C51D-BDAD-412C-A4E5-C205D25A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F9C07-FE0F-4351-B8A2-8170AE65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9A320-7DE5-4A74-90B3-15132BE1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9116D-023D-4E3D-80A4-0F81BE13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A40A9-5D7A-400F-9519-57D07E51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2A294-B480-43DD-BD25-09D8991B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30614-FAB5-4D27-A7C9-4D17FD34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C5ED-8B16-42B3-8FF3-BD36F8EF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608F6-7969-418A-8904-A7B1D34C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95864-295B-4366-B1C2-D3ABFF43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F89B1-A47A-45EE-AF2A-45B3C0D7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2B7C7-D037-4B2F-AC63-1FA34713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5BC6A-2593-4450-8E81-0931EF99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17E41-FAC9-49B5-8B0B-87652FCB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94682-388C-4BE5-9F7B-939E7331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ECA8D-0848-425E-B847-3CDB7646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38D6D-E265-48E7-8965-AD624E07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A8A5F-B29B-4DBB-8D7F-EAFCD412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770-493C-43F5-9479-5E41FDB4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2BFFC-2404-49FC-BE02-953264A3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F8278-E4EA-45EA-9D30-6753FB20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5C423-CD0C-4CD8-9D6D-0528DA84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A6FA6-1AB9-4D6B-8859-F6A55057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B43E0-2DB6-4D27-B169-E2586301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96C87-1F87-4D92-A4B3-A45D6C96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EE756-AB72-4280-B68F-3A09E51B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B7199-AD72-4F9F-9366-611B1209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53005-A10B-4541-B9B1-95CF675B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7E564-15F6-4CF8-B9F1-0BAEF0D4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CEC-7744-4D24-8C10-34578DB8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535FA-2327-421D-9173-7B78CDCD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CB0DB-060B-4455-943E-EA498AB7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38BAC-8F83-4D33-B4B3-C4019583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E711B-93B8-4B66-9E08-1BBB8483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03C8A-58F0-4481-80FD-0B0C6B96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4BCD7-D72A-4CFD-A755-700CE002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7D521-07A5-4379-B1FD-FE836B9A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FFD70-A075-46B0-B692-60B3C4D8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0C5C7-3C14-498E-9CD8-EEEDB377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3EAFC-1D77-497B-B8F0-C5F9A68F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0085-6B5B-4EC5-AD46-C20774C8AF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16FA-C7F7-44D3-A9E4-51C962BE46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5ED8-92C4-4C8D-B462-0BB9285A1D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D5BF-A8E8-492F-994B-45DE802FCB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A089-F95A-4F28-9F1D-CCF51D2F1E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7041-7BA8-44A6-9C3F-556EFFF700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1C84-A946-404B-956E-3F710110F2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8FD4-BD3F-443D-BAD8-4FA9E282E5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EA07-7EF6-4378-9D42-746EBD2845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EED2-122A-491F-8BA8-1EDE9F17C7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CA36-32C4-44E2-88BC-95CB0A4710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2F2C-8E7D-4EF0-B56D-29A8E124E9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9634-D426-4190-8C1B-297B4E2DC5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031F-1800-42C1-A36F-8537352173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4A81-71AF-4808-820D-42F4686898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1813-054A-4B56-8ACD-546C6BC423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7308-159A-45CE-952F-0733444FFE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2C18-C804-4369-8187-F8EDD3B93C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19CE-B3EA-4FA0-9EB6-37F5180F00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4648-461E-48F0-AE29-3B1CB7879F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6FC6-8F62-4B9E-9688-61C3099C8C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911E-958F-46CD-AF21-9BD3ED5CE3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BB84-B48F-4E60-BCFC-4F3CC02F13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AF24-6AF6-4102-BBA8-F7D4B752E3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40B7-E8F0-4E0C-9684-911CA8C137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93CB-66BB-4463-BDD6-02CEF25C95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EC64-60B1-4150-BEAD-B96B02A6F0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7BE5-0B31-406D-9AD2-A64F2A567B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8AD7-43BB-4DDB-83BF-DD75FCA9C0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ED9B-2EEE-4EA3-AFE4-F755116916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8CC1-ABCB-482C-A016-702AC36902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482C-C425-4075-901A-4336AD2BCC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0F20-C973-4351-93B5-891E0F0652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08B3-935F-47C1-ADE0-96B4DA0C04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474E-4486-4EB2-B2DD-24D68A9B2E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52CF-CDE1-4485-A5DA-4CC52E7C3F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4043-A52A-4FB3-BC92-C2A0270841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121C-80A6-4E41-BDDA-D6A7D39578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4074-9E3B-4942-9D21-B304DC5B9C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E4C7-C5FE-4614-89D6-1A12319327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6069-4161-4D9E-85E3-022AF1FB16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7600-8E93-491A-B7A0-A6398803BC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64960" y="3005280"/>
            <a:ext cx="877284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19240" y="971640"/>
            <a:ext cx="8705520" cy="55148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2987640" y="1758960"/>
            <a:ext cx="17287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651640" y="2276640"/>
            <a:ext cx="3241440" cy="417672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7667640" y="1716120"/>
            <a:ext cx="129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28560" y="1057320"/>
            <a:ext cx="7886880" cy="47433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024360" cy="33112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2987640" y="1066680"/>
            <a:ext cx="15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5148360" y="1628640"/>
            <a:ext cx="3240000" cy="410400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7308720" y="1036800"/>
            <a:ext cx="1513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219240" y="990720"/>
            <a:ext cx="8705520" cy="48765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971640" y="285264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4932360" y="233352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5"/>
          <a:stretch/>
        </p:blipFill>
        <p:spPr>
          <a:xfrm>
            <a:off x="4932360" y="285264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6"/>
          <a:stretch/>
        </p:blipFill>
        <p:spPr>
          <a:xfrm>
            <a:off x="971640" y="449424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7"/>
          <a:stretch/>
        </p:blipFill>
        <p:spPr>
          <a:xfrm>
            <a:off x="971640" y="501336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8"/>
          <a:stretch/>
        </p:blipFill>
        <p:spPr>
          <a:xfrm>
            <a:off x="4932360" y="450864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9"/>
          <a:stretch/>
        </p:blipFill>
        <p:spPr>
          <a:xfrm>
            <a:off x="4932360" y="5027760"/>
            <a:ext cx="295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209520" y="1019160"/>
            <a:ext cx="8724960" cy="48196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4932360" y="3357720"/>
            <a:ext cx="180036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2987640" y="422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6804000" y="4164120"/>
            <a:ext cx="1800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233280" y="612720"/>
            <a:ext cx="8677440" cy="61246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1476360" y="5734080"/>
            <a:ext cx="741672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1476360" y="6237360"/>
            <a:ext cx="741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731880" y="119160"/>
            <a:ext cx="7908840" cy="66196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547236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1187280" y="2205000"/>
            <a:ext cx="547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1187280" y="2708280"/>
            <a:ext cx="547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5"/>
          <a:stretch/>
        </p:blipFill>
        <p:spPr>
          <a:xfrm>
            <a:off x="1187280" y="3213000"/>
            <a:ext cx="547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6"/>
          <a:stretch/>
        </p:blipFill>
        <p:spPr>
          <a:xfrm>
            <a:off x="1332000" y="4724280"/>
            <a:ext cx="67690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7"/>
          <a:stretch/>
        </p:blipFill>
        <p:spPr>
          <a:xfrm>
            <a:off x="1332000" y="5229360"/>
            <a:ext cx="67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8"/>
          <a:stretch/>
        </p:blipFill>
        <p:spPr>
          <a:xfrm>
            <a:off x="1332000" y="5732640"/>
            <a:ext cx="67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9"/>
          <a:stretch/>
        </p:blipFill>
        <p:spPr>
          <a:xfrm>
            <a:off x="1332000" y="6237360"/>
            <a:ext cx="676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171360" y="760320"/>
            <a:ext cx="8801280" cy="58485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826920" y="3529080"/>
            <a:ext cx="5977080" cy="447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755640" y="407664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826920" y="458136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755640" y="5129280"/>
            <a:ext cx="597708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611280" y="5589720"/>
            <a:ext cx="8137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179280" y="1138320"/>
            <a:ext cx="8785440" cy="182232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2" descr=""/>
          <p:cNvPicPr/>
          <p:nvPr/>
        </p:nvPicPr>
        <p:blipFill>
          <a:blip r:embed="rId2"/>
          <a:stretch/>
        </p:blipFill>
        <p:spPr>
          <a:xfrm>
            <a:off x="1271520" y="3273480"/>
            <a:ext cx="6724800" cy="21621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3276720" y="162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2987640" y="2060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5651640" y="155736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5580000" y="206064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7"/>
          <a:stretch/>
        </p:blipFill>
        <p:spPr>
          <a:xfrm>
            <a:off x="8423280" y="1557360"/>
            <a:ext cx="46980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8"/>
          <a:stretch/>
        </p:blipFill>
        <p:spPr>
          <a:xfrm>
            <a:off x="8459640" y="2060640"/>
            <a:ext cx="470160" cy="447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9"/>
          <a:stretch/>
        </p:blipFill>
        <p:spPr>
          <a:xfrm>
            <a:off x="3276720" y="3860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10"/>
          <a:stretch/>
        </p:blipFill>
        <p:spPr>
          <a:xfrm>
            <a:off x="2916360" y="4508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11"/>
          <a:stretch/>
        </p:blipFill>
        <p:spPr>
          <a:xfrm>
            <a:off x="6372360" y="3860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12"/>
          <a:stretch/>
        </p:blipFill>
        <p:spPr>
          <a:xfrm>
            <a:off x="6545160" y="443700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7:0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